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4F3-BB5E-4501-B695-08186C58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415-4B5D-4F62-97B0-058E92D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686-56EF-4189-A505-8598D161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2CD-9C7F-4719-91B0-F2273BAA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751-E139-4F93-8355-4D622693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FA0-9729-4CED-A989-3A87DF0A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D4D-0B09-4D78-B2BD-6E543B03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76D-5779-418A-917B-2276D83E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735-D6FE-4A4F-811A-266D009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790-776C-4553-98CF-373DFAC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D3D-8187-478B-AF56-8FA136A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BBB-63AB-483F-B015-011039B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FD1-97CE-4FBB-ACDE-F5F697DF7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rity I. Mu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1905120"/>
            <a:ext cx="6858000" cy="374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000" spc="-1" strike="noStrike">
                <a:solidFill>
                  <a:srgbClr val="c0504d"/>
                </a:solidFill>
                <a:latin typeface="Comic Sans MS"/>
              </a:rPr>
              <a:t>Mineral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4000" spc="-1" strike="noStrike">
                <a:solidFill>
                  <a:srgbClr val="f79646"/>
                </a:solidFill>
                <a:latin typeface="Comic Sans MS"/>
              </a:rPr>
              <a:t>naturally occurring 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Inorganic Solid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a </a:t>
            </a:r>
            <a:r>
              <a:rPr b="1" lang="en-US" sz="4000" spc="-1" strike="noStrike">
                <a:solidFill>
                  <a:srgbClr val="00b0f0"/>
                </a:solidFill>
                <a:latin typeface="Comic Sans MS"/>
              </a:rPr>
              <a:t>definite chemical composi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a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crystalline structur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minerals for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82844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ystallization from mag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essure and 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ydrothermal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eral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lic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 and oxygen combine to form a structur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on-oxygen tetrahedron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ilicon-oxygen tetrahedron provides the framework of eve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licate mi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23:31:54Z</dcterms:created>
  <dc:creator>ASUS P5PE-VM</dc:creator>
  <dc:description/>
  <dc:language>en-US</dc:language>
  <cp:lastModifiedBy>ASUS P5PE-VM</cp:lastModifiedBy>
  <dcterms:modified xsi:type="dcterms:W3CDTF">2010-06-12T23:51:35Z</dcterms:modified>
  <cp:revision>2</cp:revision>
  <dc:subject/>
  <dc:title>Minerals</dc:title>
</cp:coreProperties>
</file>